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05306-9448-441C-ADB5-F5701619FEF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F4AD60-CAE9-4DF7-9912-3E025630DDA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ff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9557EA-7E89-4A85-AF4A-79D8BBE1FB6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200" spc="-1" strike="noStrike">
                <a:solidFill>
                  <a:srgbClr val="ff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197AD-0430-4A52-B059-DBEEA2F60E6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0B0212-6EF3-4360-98F0-D278762B9A6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6E3-463B-487D-AD42-6DD2501AA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145-29FE-4C9C-94BC-F7BA425D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337D-FD98-4B45-B799-FBB52326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F85-6D0B-4D07-8A1B-2EC9D683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C7D-8EE9-4928-A32E-9DA22952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0B9-6452-47E4-822B-AC60FC41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4C81-F7E3-4C84-94E6-71A6A453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788D-910A-4F70-8C82-E8E2545B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A626-F5B5-4B3C-872F-5DA0BF32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C84B-33F8-469E-B460-E9E2A597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50F6-C6C8-462A-8BC6-6E5A2A99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7138-80CF-4CC6-917F-1B75A5E9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87B6D-E7F7-4532-98CA-8EF6189028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68760" y="274680"/>
            <a:ext cx="3619440" cy="26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Calibri"/>
              </a:rPr>
              <a:t>Lehrplannavigator NRW Textilgestaltung Realschule</a:t>
            </a:r>
            <a:r>
              <a:rPr b="0" lang="de-DE" sz="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Calibri"/>
              </a:rPr>
              <a:t>Fingerstricke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200" spc="-1" strike="noStrike">
                <a:solidFill>
                  <a:srgbClr val="7f7f7f"/>
                </a:solidFill>
                <a:latin typeface="Calibri"/>
              </a:rPr>
              <a:t>Eine kurze Anleitung mit Bilde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Bild 8" descr="DSC_0004.JPG"/>
          <p:cNvPicPr/>
          <p:nvPr/>
        </p:nvPicPr>
        <p:blipFill>
          <a:blip r:embed="rId1"/>
          <a:stretch/>
        </p:blipFill>
        <p:spPr>
          <a:xfrm>
            <a:off x="2768760" y="2643120"/>
            <a:ext cx="42415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9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7f7f7f"/>
                </a:solidFill>
                <a:latin typeface="Calibri"/>
              </a:rPr>
              <a:t>Wiederhole Schritt 7 und 8 bis du meinst, dass deine Schlange lang genug is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Bildplatzhalter 3" descr="DSC_0013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0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7f7f7f"/>
                </a:solidFill>
                <a:latin typeface="Calibri"/>
              </a:rPr>
              <a:t>Nach etwa 10 Reihen kannst du die Schlaufe vom Daumen lösen. Ziehe daran und bringe deine Strickschlange in For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Bildplatzhalter 2" descr="DSC_0016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Fertig? Lang genug? 11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500" spc="-1" strike="noStrike">
                <a:solidFill>
                  <a:srgbClr val="7f7f7f"/>
                </a:solidFill>
                <a:latin typeface="Calibri"/>
              </a:rPr>
              <a:t>Schneide deinen Faden nach etwa 20 cm ab (Achtung: nicht zu kurz!) und ziehe ihn durch die Schlaufen an deinen Fingern. Nun kannst du deine Strickschlange von der Hand nehme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Bildplatzhalter 3" descr="DSC_0004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1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Bildplatzhalter 9" descr="DSC_0005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Bilde eine Schlauf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2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800" spc="-1" strike="noStrike">
                <a:solidFill>
                  <a:srgbClr val="7f7f7f"/>
                </a:solidFill>
                <a:latin typeface="Calibri"/>
              </a:rPr>
              <a:t>Lege die Schlaufe um deinen Dau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Bildplatzhalter 2" descr="DSC_0006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3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7f7f7f"/>
                </a:solidFill>
                <a:latin typeface="Calibri"/>
              </a:rPr>
              <a:t>Lege das lange Ende des Fadens vorne am Zeigefinger herum um deine Fing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Bildplatzhalter 2" descr="DSC_0007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4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600" spc="-1" strike="noStrike">
                <a:solidFill>
                  <a:srgbClr val="7f7f7f"/>
                </a:solidFill>
                <a:latin typeface="Calibri"/>
              </a:rPr>
              <a:t>Lege den Faden um den kleinen Finger und die anderen Finger heru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Bildplatzhalter 3" descr="DSC_0008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5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7f7f7f"/>
                </a:solidFill>
                <a:latin typeface="Calibri"/>
              </a:rPr>
              <a:t>Lege dir das lange Fadenende oberhalb der Garnschlingen entlang diner Handinnenfläche. Das lange Ende ist jetzt am kleinen Fing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Bildplatzhalter 3" descr="DSC_0009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6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de-DE" sz="1800" spc="-1" strike="noStrike">
                <a:solidFill>
                  <a:srgbClr val="7f7f7f"/>
                </a:solidFill>
                <a:latin typeface="Calibri"/>
              </a:rPr>
              <a:t>Ziehe die Schlinge am Zeigefinger von unten über den Faden. Gehe bei den anderen drei Fingern genauso v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Bildplatzhalter 3" descr="DSC_0010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7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6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de-DE" sz="2600" spc="-1" strike="noStrike">
                <a:solidFill>
                  <a:srgbClr val="7f7f7f"/>
                </a:solidFill>
                <a:latin typeface="Calibri"/>
              </a:rPr>
              <a:t>Lege dir den Faden oberhalb deiner Handfläche locker über die Schlauf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Bildplatzhalter 2" descr="DSC_0011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8. Schrit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0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1" lang="de-DE" sz="2000" spc="-1" strike="noStrike">
                <a:solidFill>
                  <a:srgbClr val="7f7f7f"/>
                </a:solidFill>
                <a:latin typeface="Calibri"/>
              </a:rPr>
              <a:t>Ziehe die Schlinge am Zeigefinger von unten über den Faden. Gehe bei den anderen drei Fingern genauso v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Bildplatzhalter 3" descr="DSC_0013.JP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9T16:26:50Z</dcterms:created>
  <dc:creator>Patricia</dc:creator>
  <dc:description/>
  <dc:language>en-US</dc:language>
  <cp:lastModifiedBy>Sohnius, Axel</cp:lastModifiedBy>
  <cp:lastPrinted>2013-06-05T12:03:37Z</cp:lastPrinted>
  <dcterms:modified xsi:type="dcterms:W3CDTF">2013-06-06T11:32:26Z</dcterms:modified>
  <cp:revision>13</cp:revision>
  <dc:subject/>
  <dc:title>PowerPoint-Präsentation</dc:title>
</cp:coreProperties>
</file>